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053-15A0-4AF7-91D0-8EC8D60F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22D-72CD-4E2F-8DFD-CA45DD49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171-0828-42D6-BB80-5B369327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B97-592E-42B6-878B-54AFAAE8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AB1-76E8-4877-9264-CE9BFA0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F5B-9892-4B18-ADD8-F27E43FE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B8C-DF7D-42E7-A9D3-F917968B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23C-8F98-4477-A8EE-2694D27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B31-578E-4ECE-81AD-D434AA2C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752-87FB-4866-9457-EB4FE4C1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785-48AA-4B2D-A7DC-B72E8B24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DB7-EF82-48AB-8D77-00180F25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E51-5F63-49C0-AA07-75A28B52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-76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7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KLANDS  ASSOC.                              AIRDRIE                                            AIRDRIE                                 AIRDRIE  150TH           AIRDRIE  NEW   CLUB  &amp;  MILLENNIUM         AIRDRIE - CENTRAL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1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DRIE - CENTRAL                             BAILLIESTON                                 BAILLIESTON                             BAILLIESTON                        BAILLIESTON  MILLENNIUM                 BAIRDS  SCOT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29718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2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HILL                            BELLSHILL  &amp;  MOSSEND    BELLSHILL  &amp;  MOSSEND  100TH      B.S.C. (COATDYKE)                        B S C.( COATDYKE )  75TH                             BURN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BURNHEAD                                    BURNHEAD  50TH                        CALDERBANK                                      CALDERBANK                                CALDERCRA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47926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8880" y="47628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7324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4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24520" y="47628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8196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8880" y="2133720"/>
            <a:ext cx="1116000" cy="105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44880" y="227664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584520" y="2205000"/>
            <a:ext cx="11527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681960" y="2205000"/>
            <a:ext cx="877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415800" y="3645000"/>
            <a:ext cx="131616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2073240" y="3645000"/>
            <a:ext cx="1189080" cy="128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440160" y="364500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8193240" y="378936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560520" y="5589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7928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6608880" y="53737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4952880" y="3860640"/>
            <a:ext cx="1170000" cy="10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8265960" y="5589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819324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8193240" y="47628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608880" y="3789360"/>
            <a:ext cx="11476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3728880" y="5516640"/>
            <a:ext cx="1155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2144880" y="5589720"/>
            <a:ext cx="107604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952880" y="2133720"/>
            <a:ext cx="12384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8:10:15Z</dcterms:created>
  <dc:creator>JOHN YOUNG</dc:creator>
  <dc:description/>
  <dc:language>en-US</dc:language>
  <cp:lastModifiedBy>JY</cp:lastModifiedBy>
  <cp:lastPrinted>2000-01-13T17:07:12Z</cp:lastPrinted>
  <dcterms:modified xsi:type="dcterms:W3CDTF">2008-05-20T08:03:32Z</dcterms:modified>
  <cp:revision>29</cp:revision>
  <dc:subject/>
  <dc:title>No Slide Title</dc:title>
</cp:coreProperties>
</file>